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769-53F5-480E-B0B0-F2390412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2CB-5E63-42D5-B03F-2D038CA1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84C-6A2B-47B6-B8CF-CF737952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EE0-545F-4263-A622-043C30C1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26F-6FB3-435E-9F37-0D3A4EBF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200-C45B-4D98-9908-A55080C7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627-8C59-4FE3-A948-26FDCB9E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D58-9393-4981-B176-9410FB5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2BF-CFB7-4495-9351-D3C846FE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08F-76A9-4696-95AD-85F7B31E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136-C6CD-420A-AAA3-4D25546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FC6-D1A3-4C46-B2F2-1DFF09D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F1B-FE5A-4D71-96E3-ECC8DEC51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a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LiviaT</cp:lastModifiedBy>
  <dcterms:modified xsi:type="dcterms:W3CDTF">2012-03-14T13:34:59Z</dcterms:modified>
  <cp:revision>29</cp:revision>
  <dc:subject/>
  <dc:title>SALARIUL</dc:title>
</cp:coreProperties>
</file>